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22C-CCF0-4865-8D79-7ED426DA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EF5-8AE9-4A52-A179-8909707E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FB2-9BE1-4970-AF88-F8B03CBB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989-B05F-4FFF-ABA9-EC8FF75D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593-054E-4B2C-941C-2ED84548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9DF-591D-4D63-BF79-D7F5D6E8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FF8-61D6-443C-99D4-67FABB25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BC5-301F-41E6-85CD-1EE8561C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1AB-FE6F-4791-B90E-151023D6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765-B453-40D5-9B9D-3C5F0013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E36-9F88-4D38-8886-76058801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730-41A2-4589-B1BC-45505865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ED4E79-99AE-4939-BBDB-98F33AC0A67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Century Gothic"/>
              </a:rPr>
              <a:t>El Portfolio Europeo de las Lenguas</a:t>
            </a:r>
            <a:br>
              <a:rPr sz="2800"/>
            </a:br>
            <a:br>
              <a:rPr sz="900"/>
            </a:br>
            <a:r>
              <a:rPr b="1" i="1" lang="en-GB" sz="2400" spc="-1" strike="noStrike">
                <a:solidFill>
                  <a:srgbClr val="66ff33"/>
                </a:solidFill>
                <a:latin typeface="Century Gothic"/>
              </a:rPr>
              <a:t>Autoevaluación y Descriptor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2707920"/>
            <a:ext cx="705636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entury Gothic"/>
              </a:rPr>
              <a:t>Taller para Centros Bilíngü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entury Gothic"/>
              </a:rPr>
              <a:t>y Escuelas Oficiales de Idio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entury Gothic"/>
              </a:rPr>
              <a:t>(CEP de Málaga, Marzo 2008)</a:t>
            </a:r>
            <a:r>
              <a:rPr b="1" i="1" lang="en-GB" sz="2000" spc="-1" strike="noStrike">
                <a:solidFill>
                  <a:srgbClr val="ffffff"/>
                </a:solidFill>
                <a:latin typeface="Century Gothic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084640"/>
            <a:ext cx="64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cc66"/>
                </a:solidFill>
                <a:latin typeface="Century Gothic"/>
              </a:rPr>
              <a:t>Robert Qu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5661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http://robseville.blogsp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cc66"/>
                </a:solidFill>
                <a:latin typeface="Century Gothic"/>
              </a:rPr>
              <a:t>La autoevaluación es un </a:t>
            </a:r>
            <a:r>
              <a:rPr b="1" i="1" lang="en-GB" sz="2800" spc="-1" strike="noStrike">
                <a:solidFill>
                  <a:srgbClr val="66ff33"/>
                </a:solidFill>
                <a:latin typeface="Century Gothic"/>
              </a:rPr>
              <a:t>proceso de reflexión</a:t>
            </a:r>
            <a:r>
              <a:rPr b="1" i="1" lang="en-GB" sz="2800" spc="-1" strike="noStrike">
                <a:solidFill>
                  <a:srgbClr val="ffcc66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cc66"/>
                </a:solidFill>
                <a:latin typeface="Century Gothic"/>
              </a:rPr>
              <a:t>Nos </a:t>
            </a:r>
            <a:r>
              <a:rPr b="1" i="1" lang="en-GB" sz="2400" spc="-1" strike="noStrike" u="sng">
                <a:solidFill>
                  <a:srgbClr val="ffcc66"/>
                </a:solidFill>
                <a:uFillTx/>
                <a:latin typeface="Century Gothic"/>
              </a:rPr>
              <a:t>autoevaluamos</a:t>
            </a:r>
            <a:r>
              <a:rPr b="1" i="1" lang="en-GB" sz="2400" spc="-1" strike="noStrike">
                <a:solidFill>
                  <a:srgbClr val="ffcc66"/>
                </a:solidFill>
                <a:latin typeface="Century Gothic"/>
              </a:rPr>
              <a:t> cada vez 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nos miramos en </a:t>
            </a:r>
            <a:r>
              <a:rPr b="1" i="1" lang="en-GB" sz="2400" spc="-1" strike="noStrike">
                <a:solidFill>
                  <a:srgbClr val="cc00ff"/>
                </a:solidFill>
                <a:latin typeface="Century Gothic"/>
              </a:rPr>
              <a:t>el espejo</a:t>
            </a: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nos ponemos de pie en </a:t>
            </a:r>
            <a:r>
              <a:rPr b="1" i="1" lang="en-GB" sz="2400" spc="-1" strike="noStrike">
                <a:solidFill>
                  <a:srgbClr val="cc00ff"/>
                </a:solidFill>
                <a:latin typeface="Century Gothic"/>
              </a:rPr>
              <a:t>la bás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nos preguntamos </a:t>
            </a:r>
            <a:r>
              <a:rPr b="1" i="1" lang="en-GB" sz="2400" spc="-1" strike="noStrike">
                <a:solidFill>
                  <a:srgbClr val="cc00ff"/>
                </a:solidFill>
                <a:latin typeface="Century Gothic"/>
              </a:rPr>
              <a:t>si tomar</a:t>
            </a: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GB" sz="2400" spc="-1" strike="noStrike">
                <a:solidFill>
                  <a:srgbClr val="cc00ff"/>
                </a:solidFill>
                <a:latin typeface="Century Gothic"/>
              </a:rPr>
              <a:t>ese don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decidimos  </a:t>
            </a:r>
            <a:r>
              <a:rPr b="1" i="1" lang="en-GB" sz="2400" spc="-1" strike="noStrike">
                <a:solidFill>
                  <a:srgbClr val="cc00ff"/>
                </a:solidFill>
                <a:latin typeface="Century Gothic"/>
              </a:rPr>
              <a:t>corregir algo </a:t>
            </a: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que hemos escri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analizamos </a:t>
            </a:r>
            <a:r>
              <a:rPr b="1" i="1" lang="en-GB" sz="2400" spc="-1" strike="noStrike">
                <a:solidFill>
                  <a:srgbClr val="cc00ff"/>
                </a:solidFill>
                <a:latin typeface="Century Gothic"/>
              </a:rPr>
              <a:t>si teníamos razón</a:t>
            </a: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 en una disc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alguién nos critica y </a:t>
            </a:r>
            <a:r>
              <a:rPr b="1" i="1" lang="en-GB" sz="2400" spc="-1" strike="noStrike">
                <a:solidFill>
                  <a:srgbClr val="cc00ff"/>
                </a:solidFill>
                <a:latin typeface="Century Gothic"/>
              </a:rPr>
              <a:t>decidimos defend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cc66"/>
                </a:solidFill>
                <a:latin typeface="Arial"/>
              </a:rPr>
              <a:t>Lo mismo pasa cuando un alumno pregunt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¿Pero cómo me ves en la cla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¿Crees que voy bien en gener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¿Crees que estoy en la media del gru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¿Cuáles son mis puntos fuertes / puntos floj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¿Cómo es qué siempre cateo en los contro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¿Por qué saco “sufis”, con todo lo que estud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869000"/>
            <a:ext cx="784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Tus alumnos </a:t>
            </a:r>
            <a:r>
              <a:rPr b="1" lang="en-GB" sz="2000" spc="-1" strike="noStrike" u="sng">
                <a:solidFill>
                  <a:srgbClr val="cc99ff"/>
                </a:solidFill>
                <a:uFillTx/>
                <a:latin typeface="Century Gothic"/>
              </a:rPr>
              <a:t>ya se están autoevaluando</a:t>
            </a:r>
            <a:r>
              <a:rPr b="1" lang="en-GB" sz="2000" spc="-1" strike="noStrike">
                <a:solidFill>
                  <a:srgbClr val="cc99ff"/>
                </a:solidFill>
                <a:latin typeface="Century Gothic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Algunos lo harán </a:t>
            </a:r>
            <a:r>
              <a:rPr b="1" lang="en-GB" sz="2000" spc="-1" strike="noStrike" u="sng">
                <a:solidFill>
                  <a:srgbClr val="cc99ff"/>
                </a:solidFill>
                <a:uFillTx/>
                <a:latin typeface="Century Gothic"/>
              </a:rPr>
              <a:t>más bien poco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o </a:t>
            </a:r>
            <a:r>
              <a:rPr b="1" lang="en-GB" sz="2000" spc="-1" strike="noStrike" u="sng">
                <a:solidFill>
                  <a:srgbClr val="cc99ff"/>
                </a:solidFill>
                <a:uFillTx/>
                <a:latin typeface="Century Gothic"/>
              </a:rPr>
              <a:t>a destiempo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Otros que lo harán más, pero </a:t>
            </a:r>
            <a:r>
              <a:rPr b="1" lang="en-GB" sz="2000" spc="-1" strike="noStrike" u="sng">
                <a:solidFill>
                  <a:srgbClr val="cc99ff"/>
                </a:solidFill>
                <a:uFillTx/>
                <a:latin typeface="Century Gothic"/>
              </a:rPr>
              <a:t>de forma ineficaz o irregula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cc66"/>
                </a:solidFill>
                <a:latin typeface="Arial"/>
              </a:rPr>
              <a:t>¿Qué podemos hacer para ayudar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Hacer los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objetivos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públicos y explíc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xplicar nuestros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criterios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de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cordar unas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definiciones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de “progres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dicar tiempo a la reflexión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conjunta y guiada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rles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herramientas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para guiarse a si m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Un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scríbeme una redacción sobre tu personal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66ff33"/>
                </a:solidFill>
                <a:latin typeface="Arial"/>
              </a:rPr>
              <a:t>¿Qué nota te darías?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GB" sz="2200" spc="-1" strike="noStrike">
                <a:solidFill>
                  <a:srgbClr val="cc00ff"/>
                </a:solidFill>
                <a:latin typeface="Arial"/>
              </a:rPr>
              <a:t>¿Qué nota crees yo voy a dart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61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cc66"/>
                </a:solidFill>
                <a:latin typeface="Arial"/>
              </a:rPr>
              <a:t>Necesitarías sa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Objetivos de la redac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¿Demostrarme cuantos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adjetivos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cono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¿Ponerlo en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Facebook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para encontrar parej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¿Incluirlo en una carta, solicitando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un empleo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¿Dar una muestra de tu letra a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un grafólogo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¿Escribir algo que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haga reir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a los lector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Criterios de evalu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Muchos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adjetivos impresio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tenido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interesant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que despierte el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 tono adecuado y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datos pertinentes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al pue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scribir cualquier cosa, pero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que sea 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Anécdotas graciosas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 un tono ligero y joco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 fill="hold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cc66"/>
                </a:solidFill>
                <a:latin typeface="Arial"/>
              </a:rPr>
              <a:t>De mi profesora de lengua de 6º de Prima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66ff33"/>
                </a:solidFill>
                <a:uFillTx/>
                <a:latin typeface="Arial"/>
              </a:rPr>
              <a:t>Marking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tent: 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5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rganization: 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5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Grammar and style: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5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se of vocabulary: 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3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pelling and neatness: 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         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Total = 20 points x 5 = ____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cc66"/>
                </a:solidFill>
                <a:latin typeface="Arial"/>
              </a:rPr>
              <a:t>Las tablas de autoevaluación del P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Speaking (monologue)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Oral Interaction (dialogue)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Los criterios son 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modulares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, permitiendo as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una 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evaluación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diferenciada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 de las 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5 destrezas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03280" y="2205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entury Gothic"/>
              </a:rPr>
              <a:t>LOS DESCRIP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cc66"/>
                </a:solidFill>
                <a:latin typeface="Arial"/>
              </a:rPr>
              <a:t>Los descrip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Se redactan en términos de </a:t>
            </a:r>
            <a:r>
              <a:rPr b="1" i="1" lang="en-GB" sz="2200" spc="-1" strike="noStrike">
                <a:solidFill>
                  <a:srgbClr val="66ff33"/>
                </a:solidFill>
                <a:latin typeface="Arial"/>
              </a:rPr>
              <a:t>conductas re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Se inspiran en un “</a:t>
            </a:r>
            <a:r>
              <a:rPr b="1" i="1" lang="en-GB" sz="2200" spc="-1" strike="noStrike">
                <a:solidFill>
                  <a:srgbClr val="66ff33"/>
                </a:solidFill>
                <a:latin typeface="Arial"/>
              </a:rPr>
              <a:t>action-based approach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200" spc="-1" strike="noStrike">
                <a:solidFill>
                  <a:srgbClr val="cc00ff"/>
                </a:solidFill>
                <a:latin typeface="Arial"/>
              </a:rPr>
              <a:t>What can you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200" spc="-1" strike="noStrike" u="sng">
                <a:solidFill>
                  <a:srgbClr val="66ff33"/>
                </a:solidFill>
                <a:uFillTx/>
                <a:latin typeface="Arial"/>
              </a:rPr>
              <a:t>DO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200" spc="-1" strike="noStrike">
                <a:solidFill>
                  <a:srgbClr val="cc00ff"/>
                </a:solidFill>
                <a:latin typeface="Arial"/>
              </a:rPr>
              <a:t>with the langua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3. Contemplan una </a:t>
            </a:r>
            <a:r>
              <a:rPr b="1" i="1" lang="en-GB" sz="2200" spc="-1" strike="noStrike">
                <a:solidFill>
                  <a:srgbClr val="66ff33"/>
                </a:solidFill>
                <a:latin typeface="Arial"/>
              </a:rPr>
              <a:t>gama muy amplia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 de fa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4. Buscan un </a:t>
            </a:r>
            <a:r>
              <a:rPr b="1" i="1" lang="en-GB" sz="2200" spc="-1" strike="noStrike">
                <a:solidFill>
                  <a:srgbClr val="66ff33"/>
                </a:solidFill>
                <a:latin typeface="Arial"/>
              </a:rPr>
              <a:t>equilibrio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 para que sean polival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476280"/>
            <a:ext cx="828036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Competencias gener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cc66"/>
                </a:solidFill>
                <a:latin typeface="Arial"/>
              </a:rPr>
              <a:t>conocimiento declarativo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saber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) – experiencia, estudios, bag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cc66"/>
                </a:solidFill>
                <a:latin typeface="Arial"/>
              </a:rPr>
              <a:t>destrezas y habilidade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saber hacer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) – control de acciones y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cc66"/>
                </a:solidFill>
                <a:latin typeface="Arial"/>
              </a:rPr>
              <a:t>competencia existencial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saber estar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) – control de factores 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cc66"/>
                </a:solidFill>
                <a:latin typeface="Arial"/>
              </a:rPr>
              <a:t>competencia de aprendizaj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saber aprender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) – capacidad para ap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ff"/>
                </a:solidFill>
                <a:latin typeface="Arial"/>
              </a:rPr>
              <a:t>Competencias comunicativ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cc66"/>
                </a:solidFill>
                <a:latin typeface="Arial"/>
              </a:rPr>
              <a:t>lingüístic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– habilidad con el sistema lingüí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cc66"/>
                </a:solidFill>
                <a:latin typeface="Arial"/>
              </a:rPr>
              <a:t>socio-lingüístic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- manejo de convenciones sociales/cultura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cc66"/>
                </a:solidFill>
                <a:latin typeface="Arial"/>
              </a:rPr>
              <a:t>pragmátic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- uso práctico para funciones comun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907920"/>
            <a:ext cx="8136000" cy="49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Ámbitos donde ocurren distintas sit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  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  <a:ea typeface="MS Gothic"/>
              </a:rPr>
              <a:t>Personal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  (casa, familia, amigos)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 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  <a:ea typeface="MS Gothic"/>
              </a:rPr>
              <a:t>Público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 (instituciones, lugares públicos)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 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  <a:ea typeface="MS Gothic"/>
              </a:rPr>
              <a:t>Educativo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 (escuela, formación)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 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  <a:ea typeface="MS Gothic"/>
              </a:rPr>
              <a:t>Profesional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 (trabajo)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Century Gothic"/>
              </a:rPr>
              <a:t>¿Qué es el P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Es una </a:t>
            </a:r>
            <a:r>
              <a:rPr b="1" lang="en-GB" sz="2200" spc="-1" strike="noStrike" u="sng">
                <a:solidFill>
                  <a:srgbClr val="ffcc66"/>
                </a:solidFill>
                <a:uFillTx/>
                <a:latin typeface="Century Gothic"/>
              </a:rPr>
              <a:t>carpeta personal</a:t>
            </a: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 en la cuál los alumnos pue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(1)</a:t>
            </a:r>
            <a:r>
              <a:rPr b="1" lang="en-GB" sz="2200" spc="-1" strike="noStrike">
                <a:solidFill>
                  <a:srgbClr val="ffcc66"/>
                </a:solidFill>
                <a:latin typeface="Century Gothic"/>
              </a:rPr>
              <a:t> </a:t>
            </a:r>
            <a:r>
              <a:rPr b="1" lang="en-GB" sz="2200" spc="-1" strike="noStrike" u="sng">
                <a:solidFill>
                  <a:srgbClr val="ffcc66"/>
                </a:solidFill>
                <a:uFillTx/>
                <a:latin typeface="Century Gothic"/>
              </a:rPr>
              <a:t>demonstrar</a:t>
            </a: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, (2) </a:t>
            </a:r>
            <a:r>
              <a:rPr b="1" lang="en-GB" sz="2200" spc="-1" strike="noStrike" u="sng">
                <a:solidFill>
                  <a:srgbClr val="ffcc66"/>
                </a:solidFill>
                <a:uFillTx/>
                <a:latin typeface="Century Gothic"/>
              </a:rPr>
              <a:t>describir</a:t>
            </a: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 y (3) </a:t>
            </a:r>
            <a:r>
              <a:rPr b="1" lang="en-GB" sz="2200" spc="-1" strike="noStrike" u="sng">
                <a:solidFill>
                  <a:srgbClr val="ffcc66"/>
                </a:solidFill>
                <a:uFillTx/>
                <a:latin typeface="Century Gothic"/>
              </a:rPr>
              <a:t>resumir</a:t>
            </a: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cc66"/>
                </a:solidFill>
                <a:latin typeface="Century Gothic"/>
              </a:rPr>
              <a:t>las lengua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de su entorno y vida cotidi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cc66"/>
                </a:solidFill>
                <a:latin typeface="Century Gothic"/>
              </a:rPr>
              <a:t>sus experiencia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lingüísticas e intercultur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cc66"/>
                </a:solidFill>
                <a:latin typeface="Century Gothic"/>
              </a:rPr>
              <a:t>sus intereses y actitude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en cuanto a sus lengu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cc66"/>
                </a:solidFill>
                <a:latin typeface="Century Gothic"/>
              </a:rPr>
              <a:t>sus maneras de aprende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y practicar una len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cc66"/>
                </a:solidFill>
                <a:latin typeface="Century Gothic"/>
              </a:rPr>
              <a:t>ejemplo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cc66"/>
                </a:solidFill>
                <a:latin typeface="Century Gothic"/>
              </a:rPr>
              <a:t>de sus mejores logro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hasta el mo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cc66"/>
                </a:solidFill>
                <a:latin typeface="Century Gothic"/>
              </a:rPr>
              <a:t>sus propias valoracione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de sus habilidades lingüíst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476280"/>
            <a:ext cx="828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aracterísticas clave de los descriptores del 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197000"/>
            <a:ext cx="828036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e expresan en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términos positivo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(puedo hacer)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 u="sng">
                <a:solidFill>
                  <a:srgbClr val="66ff33"/>
                </a:solidFill>
                <a:uFillTx/>
                <a:latin typeface="Arial"/>
              </a:rPr>
              <a:t>No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ponen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“el nativo”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como ideal a consegu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pan-lingüístico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y por tanto “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agramaticale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flexible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y abiertos a la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adaptación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y la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concre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estadísticamente fiable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y ampliamente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prob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No son exhaustivos, pero establecen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anclajes bás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on una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espina dorsal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para la creación de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otras esca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476280"/>
            <a:ext cx="828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800080"/>
                </a:solidFill>
                <a:latin typeface="Arial"/>
              </a:rPr>
              <a:t>PORQUÉ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800080"/>
                </a:solidFill>
                <a:latin typeface="Arial"/>
              </a:rPr>
              <a:t>ADAPTAR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 los descript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197000"/>
            <a:ext cx="8280360" cy="49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stán diseñados para un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público MUY dive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ben ser aplicables a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muchos ámbit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di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PARA QUIÉ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ffcc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Ámbito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específicos (e.g., business vs educación)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ffcc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Currículo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en concreto (e.g., ciclos formativos)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ffcc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Profesione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en particular (e.g., azafatas de vuelo)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ffcc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Edad y nivel de madurez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e los alum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cc00ff"/>
                </a:solidFill>
                <a:latin typeface="Arial"/>
              </a:rPr>
              <a:t>DE QUÉ 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ffcc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Simplificación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cc00ff"/>
                </a:solidFill>
                <a:latin typeface="Arial"/>
              </a:rPr>
              <a:t>v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Elaboración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del lengua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ffcc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Más distinccione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dentro de los niveles (A1.1, A1.2 A1+)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ffcc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Ampliar / Diversificar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la cobertura de los supue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5280" y="476280"/>
            <a:ext cx="828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800080"/>
                </a:solidFill>
                <a:latin typeface="Arial"/>
              </a:rPr>
              <a:t>ADAPTANDO LOS DESCRIP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97000"/>
            <a:ext cx="8280360" cy="55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00ff00"/>
                </a:solidFill>
                <a:latin typeface="Arial"/>
              </a:rPr>
              <a:t>Sumar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ituaciones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no contempladas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tu propio 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00ff00"/>
                </a:solidFill>
                <a:latin typeface="Arial"/>
              </a:rPr>
              <a:t>Sustraer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scriptores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no aplicable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a tu propio 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00ff00"/>
                </a:solidFill>
                <a:latin typeface="Arial"/>
              </a:rPr>
              <a:t>Dividir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os niveles para registrar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progresos más pequ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00ff00"/>
                </a:solidFill>
                <a:latin typeface="Arial"/>
              </a:rPr>
              <a:t>Multiplicar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as interpretaciones de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un descriptor en conc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476280"/>
            <a:ext cx="828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800080"/>
                </a:solidFill>
                <a:latin typeface="Arial"/>
              </a:rPr>
              <a:t>BUENOS DESCRIP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197000"/>
            <a:ext cx="828036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POSITIVOS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para definir logros, y no limi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ACTION-BASED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en el </a:t>
            </a:r>
            <a:r>
              <a:rPr b="1" i="1" lang="en-GB" sz="2000" spc="-1" strike="noStrike">
                <a:solidFill>
                  <a:srgbClr val="ffcc66"/>
                </a:solidFill>
                <a:latin typeface="Arial"/>
              </a:rPr>
              <a:t>saber hacer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, y no solamente el s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CONCRETOS Y PRECISO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- tareas específicas en situaciones concr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- un nivel de exigencia acorde con nivel ac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- evitando las redacciones muy generales / abie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4.  BREVES Y MUY CONCISOS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para ir al grano, sin ro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CLAROS Y FÁCILES DE INTERPRETAR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para todo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EQUIPARABLES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a los otros descriptores o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476280"/>
            <a:ext cx="828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800080"/>
                </a:solidFill>
                <a:latin typeface="Arial"/>
              </a:rPr>
              <a:t>DESCRIPTORES DUD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268280"/>
            <a:ext cx="828036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Puedo leer un cu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cc00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Entiendo las ideas generales, pero no capto los deta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Sé los nombres de los animales de gr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cc00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Entiendo los nativos cuando me hab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Puedo entender programas de televisión, pero solamente si están grabadas, para que pueda rebobinarlas cuando me pierdo o pararlas para consultar un diccion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cc00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Puedo utilizar correctamente tanto el pasado simple como el pasado continuo, incluso contrastando su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No puedo seguir una conversación cuando el acento no me resulta famili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476280"/>
            <a:ext cx="828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800080"/>
                </a:solidFill>
                <a:latin typeface="Arial"/>
              </a:rPr>
              <a:t>ESTRATEGIAS DE RED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197000"/>
            <a:ext cx="828036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ACTION VERB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(can read, can talk about, can express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49"/>
              </a:spcBef>
              <a:buClr>
                <a:srgbClr val="cc00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>
                <a:solidFill>
                  <a:srgbClr val="cc00ff"/>
                </a:solidFill>
                <a:latin typeface="Arial"/>
              </a:rPr>
              <a:t>QUALIFYING PHRASE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(usually, most, some, casi siempre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SITUATIONAL PROVIS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(…if / when / provided…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49"/>
              </a:spcBef>
              <a:buClr>
                <a:srgbClr val="cc00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>
                <a:solidFill>
                  <a:srgbClr val="cc00ff"/>
                </a:solidFill>
                <a:latin typeface="Arial"/>
              </a:rPr>
              <a:t>TACIT UNDERSTANDINGS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for a child / at this age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EXAMPLES OF TEXTS / CONTEXTS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…such as…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49"/>
              </a:spcBef>
              <a:buClr>
                <a:srgbClr val="cc00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>
                <a:solidFill>
                  <a:srgbClr val="cc00ff"/>
                </a:solidFill>
                <a:latin typeface="Arial"/>
              </a:rPr>
              <a:t>ILLUSTRATIVE SENTENCES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Modelo Holandés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BLANKET / GROUPED CONDITIONS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Modelo Francés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3200" spc="-1" strike="noStrike" u="sng">
                <a:solidFill>
                  <a:srgbClr val="ffcc66"/>
                </a:solidFill>
                <a:uFillTx/>
                <a:latin typeface="Century Gothic"/>
              </a:rPr>
              <a:t>TAREA EN GRU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Font typeface="Wingdings" charset="2"/>
              <a:buChar char="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ff"/>
                </a:solidFill>
                <a:latin typeface="Century Gothic"/>
              </a:rPr>
              <a:t>Infa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Century Gothic"/>
              </a:rPr>
              <a:t>3º de Pri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Century Gothic"/>
              </a:rPr>
              <a:t>5º de Pri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Century Gothic"/>
              </a:rPr>
              <a:t>3º de la 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46a3aa"/>
              </a:buClr>
              <a:buFont typeface="Wingdings" charset="2"/>
              <a:buChar char="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46a3aa"/>
                </a:solidFill>
                <a:latin typeface="Century Gothic"/>
              </a:rPr>
              <a:t>1º de E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1989000"/>
            <a:ext cx="5184720" cy="3426840"/>
          </a:xfrm>
          <a:prstGeom prst="rect">
            <a:avLst/>
          </a:prstGeom>
          <a:solidFill>
            <a:srgbClr val="46a3a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Analiza una 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unidad 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 Escribe descriptores en base al 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y a tus 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propias prioridade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en la 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 Basa tus descriptores el 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nivel apropiado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l PEL / Marco Com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 Consulta los descriptores de los nive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l 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MCER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DIALANG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para gui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3200" spc="-1" strike="noStrike" u="sng">
                <a:solidFill>
                  <a:srgbClr val="ffcc66"/>
                </a:solidFill>
                <a:uFillTx/>
                <a:latin typeface="Century Gothic"/>
              </a:rPr>
              <a:t>RECURSOS &amp;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66"/>
                </a:solidFill>
                <a:latin typeface="Century Gothic"/>
              </a:rPr>
              <a:t>&gt; Portfolio Europeo </a:t>
            </a:r>
            <a:r>
              <a:rPr b="1" i="1" lang="en-GB" sz="1800" spc="-1" strike="noStrike">
                <a:solidFill>
                  <a:srgbClr val="ffcc66"/>
                </a:solidFill>
                <a:latin typeface="Century Gothic"/>
              </a:rPr>
              <a:t>– </a:t>
            </a:r>
            <a:r>
              <a:rPr b="1" i="1" lang="en-GB" sz="1800" spc="-1" strike="noStrike">
                <a:solidFill>
                  <a:srgbClr val="00ff00"/>
                </a:solidFill>
                <a:latin typeface="Century Gothic"/>
              </a:rPr>
              <a:t>Distintos mod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66"/>
                </a:solidFill>
                <a:latin typeface="Century Gothic"/>
              </a:rPr>
              <a:t>&gt; Portfolio Europeo </a:t>
            </a:r>
            <a:r>
              <a:rPr b="1" i="1" lang="en-GB" sz="1800" spc="-1" strike="noStrike">
                <a:solidFill>
                  <a:srgbClr val="ffcc66"/>
                </a:solidFill>
                <a:latin typeface="Century Gothic"/>
              </a:rPr>
              <a:t>– </a:t>
            </a:r>
            <a:r>
              <a:rPr b="1" i="1" lang="en-GB" sz="1800" spc="-1" strike="noStrike">
                <a:solidFill>
                  <a:srgbClr val="00ff00"/>
                </a:solidFill>
                <a:latin typeface="Century Gothic"/>
              </a:rPr>
              <a:t>Base de datos de descrip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66"/>
                </a:solidFill>
                <a:latin typeface="Century Gothic"/>
              </a:rPr>
              <a:t>&gt; Marco Común </a:t>
            </a:r>
            <a:r>
              <a:rPr b="1" i="1" lang="en-GB" sz="1800" spc="-1" strike="noStrike">
                <a:solidFill>
                  <a:srgbClr val="ffcc66"/>
                </a:solidFill>
                <a:latin typeface="Century Gothic"/>
              </a:rPr>
              <a:t>– </a:t>
            </a:r>
            <a:r>
              <a:rPr b="1" i="1" lang="en-GB" sz="1800" spc="-1" strike="noStrike">
                <a:solidFill>
                  <a:srgbClr val="00ff00"/>
                </a:solidFill>
                <a:latin typeface="Century Gothic"/>
              </a:rPr>
              <a:t>Escalas ilustrativas del 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66"/>
                </a:solidFill>
                <a:latin typeface="Century Gothic"/>
              </a:rPr>
              <a:t>&gt; Marco Común </a:t>
            </a:r>
            <a:r>
              <a:rPr b="1" i="1" lang="en-GB" sz="1800" spc="-1" strike="noStrike">
                <a:solidFill>
                  <a:srgbClr val="ffcc66"/>
                </a:solidFill>
                <a:latin typeface="Century Gothic"/>
              </a:rPr>
              <a:t>– </a:t>
            </a:r>
            <a:r>
              <a:rPr b="1" i="1" lang="en-GB" sz="1800" spc="-1" strike="noStrike">
                <a:solidFill>
                  <a:srgbClr val="00ff00"/>
                </a:solidFill>
                <a:latin typeface="Century Gothic"/>
              </a:rPr>
              <a:t>Base de datos de descrip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66"/>
                </a:solidFill>
                <a:latin typeface="Century Gothic"/>
              </a:rPr>
              <a:t>&gt; DIALANG Project – </a:t>
            </a:r>
            <a:r>
              <a:rPr b="1" i="1" lang="en-GB" sz="1800" spc="-1" strike="noStrike">
                <a:solidFill>
                  <a:srgbClr val="00ff00"/>
                </a:solidFill>
                <a:latin typeface="Century Gothic"/>
              </a:rPr>
              <a:t>Escales equiparables al M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66"/>
                </a:solidFill>
                <a:latin typeface="Century Gothic"/>
              </a:rPr>
              <a:t>&gt; ALTE Can-DO Project </a:t>
            </a:r>
            <a:r>
              <a:rPr b="1" i="1" lang="en-GB" sz="1800" spc="-1" strike="noStrike">
                <a:solidFill>
                  <a:srgbClr val="ffcc66"/>
                </a:solidFill>
                <a:latin typeface="Century Gothic"/>
              </a:rPr>
              <a:t>– </a:t>
            </a:r>
            <a:r>
              <a:rPr b="1" i="1" lang="en-GB" sz="1800" spc="-1" strike="noStrike">
                <a:solidFill>
                  <a:srgbClr val="00ff00"/>
                </a:solidFill>
                <a:latin typeface="Century Gothic"/>
              </a:rPr>
              <a:t>Association of Language Testers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66"/>
                </a:solidFill>
                <a:latin typeface="Century Gothic"/>
              </a:rPr>
              <a:t>&gt; Peter Lenz &amp; Günter Schnei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66"/>
                </a:solidFill>
                <a:latin typeface="Century Gothic"/>
              </a:rPr>
              <a:t>	</a:t>
            </a:r>
            <a:r>
              <a:rPr b="1" i="1" lang="en-GB" sz="1800" spc="-1" strike="noStrike">
                <a:solidFill>
                  <a:srgbClr val="00ff00"/>
                </a:solidFill>
                <a:latin typeface="Century Gothic"/>
              </a:rPr>
              <a:t>Guide for Developers of European Language Portfolios (2002)</a:t>
            </a:r>
            <a:r>
              <a:rPr b="1" i="1" lang="en-GB" sz="1800" spc="-1" strike="noStrike">
                <a:solidFill>
                  <a:srgbClr val="00ff00"/>
                </a:solidFill>
                <a:latin typeface="Century Gothic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00ff"/>
                </a:solidFill>
                <a:latin typeface="Arial"/>
              </a:rPr>
              <a:t>http://robseville.blogspo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9600" spc="-1" strike="noStrike">
                <a:solidFill>
                  <a:srgbClr val="ffcc66"/>
                </a:solidFill>
                <a:latin typeface="Arial"/>
              </a:rPr>
              <a:t>F</a:t>
            </a:r>
            <a:r>
              <a:rPr b="1" i="1" lang="en-GB" sz="9600" spc="-1" strike="noStrike">
                <a:solidFill>
                  <a:srgbClr val="cc00ff"/>
                </a:solidFill>
                <a:latin typeface="Arial"/>
              </a:rPr>
              <a:t>I</a:t>
            </a:r>
            <a:r>
              <a:rPr b="1" i="1" lang="en-GB" sz="9600" spc="-1" strike="noStrike">
                <a:solidFill>
                  <a:srgbClr val="66ff33"/>
                </a:solidFill>
                <a:latin typeface="Arial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Arial"/>
              </a:rPr>
              <a:t>¿Qué contiene el P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Century Gothic"/>
              </a:rPr>
              <a:t>El dossier</a:t>
            </a:r>
            <a:r>
              <a:rPr b="1" lang="en-GB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Century Gothic"/>
              </a:rPr>
              <a:t>donde se demuestr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Trabajo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que ilustran su nivel actual en las leng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Recuerdo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significactivos de otras lenguas y cul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Constancia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oficial de sus logros (diplomas/certificados)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957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Century Gothic"/>
              </a:rPr>
              <a:t>La biografía lingüística,</a:t>
            </a:r>
            <a:r>
              <a:rPr b="1" lang="en-GB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Century Gothic"/>
              </a:rPr>
              <a:t>donde se describe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Sus experiencias 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en distintas lenguas y cultur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Sus manera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de aprender y utilizar distintas lengu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Sus estilos y estrategia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para aprender y comunicar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Sus valoraciones</a:t>
            </a:r>
            <a:r>
              <a:rPr b="1" lang="en-GB" sz="2000" spc="-1" strike="noStrike">
                <a:solidFill>
                  <a:srgbClr val="99ff99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de su nivel en las diferentes leng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Century Gothic"/>
              </a:rPr>
              <a:t>El pasaporte, donde se resu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Las lengua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que se utilizan en su entorn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Los certificados y diploma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que ha consegui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Su nivel general</a:t>
            </a:r>
            <a:r>
              <a:rPr b="1" lang="en-GB" sz="2000" spc="-1" strike="noStrike">
                <a:solidFill>
                  <a:srgbClr val="99ff99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a través de autoevaluaciones glob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Century Gothic"/>
              </a:rPr>
              <a:t>¿Para qué sirve el P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66ff33"/>
                </a:solidFill>
                <a:latin typeface="Century Gothic"/>
              </a:rPr>
              <a:t>Para los alumn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Puede hacerles ve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que las otras lenguas son “rea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Puede recordarles</a:t>
            </a:r>
            <a:r>
              <a:rPr b="1" lang="en-GB" sz="2000" spc="-1" strike="noStrike">
                <a:solidFill>
                  <a:srgbClr val="ffcc66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para qué sirve aprender una len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Puede motivarle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, al recordarles lo mucho que s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Puede animarle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a reflexionar sobre sus progre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Puede ayudarle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a formular sus propios obje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Puede inspirarle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a tomar la iniciativa en sus 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Puede servirle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de “</a:t>
            </a:r>
            <a:r>
              <a:rPr b="1" i="1" lang="en-GB" sz="2000" spc="-1" strike="noStrike">
                <a:solidFill>
                  <a:srgbClr val="ffffff"/>
                </a:solidFill>
                <a:latin typeface="Century Gothic"/>
              </a:rPr>
              <a:t>book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” para presumir de sus log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Century Gothic"/>
              </a:rPr>
              <a:t>¿Para qué sirve el P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cc00ff"/>
                </a:solidFill>
                <a:latin typeface="Century Gothic"/>
              </a:rPr>
              <a:t>Para nosot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cc00ff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Century Gothic"/>
              </a:rPr>
              <a:t>Puede da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mucha información muy útil sobre los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cc00ff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Century Gothic"/>
              </a:rPr>
              <a:t>Puede facilita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la coordinación entre etapas y niv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cc00ff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Century Gothic"/>
              </a:rPr>
              <a:t>Puede mejora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la comunicación con alumnos y pad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cc00ff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Century Gothic"/>
              </a:rPr>
              <a:t>Puede sirvi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de apoyo documental para el asesor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cc00ff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Century Gothic"/>
              </a:rPr>
              <a:t>Puede fomenta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actitudes de responsabilidad y resp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cc00ff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Century Gothic"/>
              </a:rPr>
              <a:t>Puede convertirse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en un proyecto a medio / largo plaz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cc00ff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Century Gothic"/>
              </a:rPr>
              <a:t>Puede inspira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muchas actividades prácticas en el a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cc66"/>
                </a:solidFill>
                <a:latin typeface="Century Gothic"/>
              </a:rPr>
              <a:t>La biografía lingüí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82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La biografía lingüística es un </a:t>
            </a: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historial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donde los alum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describen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sus experiencias lingüísticas y </a:t>
            </a: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demuestran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su trayectoría de aprendiza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Sus lengua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(maternas, extranjeras, ambientales)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Sus manera de aprender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(estilos, preferencias, estrategias)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2200" spc="-1" strike="noStrike" u="sng">
                <a:solidFill>
                  <a:srgbClr val="cc00ff"/>
                </a:solidFill>
                <a:uFillTx/>
                <a:latin typeface="Arial"/>
              </a:rPr>
              <a:t>Las cosas que saben hacer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(a través de autoevaluaciones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Sus planes de aprendizaje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(marcándo sus objetivos)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002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cc66"/>
                </a:solidFill>
                <a:latin typeface="Century Gothic"/>
              </a:rPr>
              <a:t>¿Qué sé hac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cc66"/>
                </a:solidFill>
                <a:latin typeface="Century Gothic"/>
              </a:rPr>
              <a:t>en mis lenguas?</a:t>
            </a:r>
            <a:r>
              <a:rPr b="1" lang="en-GB" sz="5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cc00ff"/>
                </a:solidFill>
                <a:latin typeface="Century Gothic"/>
              </a:rPr>
              <a:t>Autoevalu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cc00ff"/>
                </a:solidFill>
                <a:latin typeface="Century Gothic"/>
              </a:rPr>
              <a:t>en la biografía lingüística</a:t>
            </a:r>
            <a:r>
              <a:rPr b="1" i="1" lang="en-GB" sz="5400" spc="-1" strike="noStrike">
                <a:solidFill>
                  <a:srgbClr val="cc00ff"/>
                </a:solidFill>
                <a:latin typeface="Century Gothic"/>
              </a:rPr>
              <a:t> </a:t>
            </a:r>
            <a:r>
              <a:rPr b="1" i="1" lang="en-GB" sz="2400" spc="-1" strike="noStrike">
                <a:solidFill>
                  <a:srgbClr val="cc00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Century Gothic"/>
              </a:rPr>
              <a:t>¿Por qué la autoevalu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Si no sabes adónde quieres i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lo más probable es que no vas a llegar nunca”.</a:t>
            </a: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Century Gothic"/>
              </a:rPr>
              <a:t>Yogi Berra (jugador de béisbol)</a:t>
            </a:r>
            <a:r>
              <a:rPr b="1" lang="en-GB" sz="1800" spc="-1" strike="noStrike">
                <a:solidFill>
                  <a:srgbClr val="66ff33"/>
                </a:solidFill>
                <a:latin typeface="Century Gothic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ff"/>
                </a:solidFill>
                <a:latin typeface="Century Gothic"/>
              </a:rPr>
              <a:t>Pero para decidir dónde vas a ir </a:t>
            </a:r>
            <a:r>
              <a:rPr b="1" lang="en-GB" sz="2400" spc="-1" strike="noStrike" u="sng">
                <a:solidFill>
                  <a:srgbClr val="cc00ff"/>
                </a:solidFill>
                <a:uFillTx/>
                <a:latin typeface="Century Gothic"/>
              </a:rPr>
              <a:t>en el futuro</a:t>
            </a:r>
            <a:r>
              <a:rPr b="1" lang="en-GB" sz="2400" spc="-1" strike="noStrike">
                <a:solidFill>
                  <a:srgbClr val="cc00ff"/>
                </a:solidFill>
                <a:latin typeface="Century Gothic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ff"/>
                </a:solidFill>
                <a:latin typeface="Century Gothic"/>
              </a:rPr>
              <a:t>…</a:t>
            </a:r>
            <a:r>
              <a:rPr b="1" lang="en-GB" sz="2400" spc="-1" strike="noStrike">
                <a:solidFill>
                  <a:srgbClr val="cc00ff"/>
                </a:solidFill>
                <a:latin typeface="Century Gothic"/>
              </a:rPr>
              <a:t>tienes que saber dónde estás </a:t>
            </a:r>
            <a:r>
              <a:rPr b="1" lang="en-GB" sz="2400" spc="-1" strike="noStrike" u="sng">
                <a:solidFill>
                  <a:srgbClr val="cc00ff"/>
                </a:solidFill>
                <a:uFillTx/>
                <a:latin typeface="Century Gothic"/>
              </a:rPr>
              <a:t>ahora</a:t>
            </a:r>
            <a:r>
              <a:rPr b="1" lang="en-GB" sz="2400" spc="-1" strike="noStrike">
                <a:solidFill>
                  <a:srgbClr val="cc00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</dc:creator>
  <dc:description/>
  <dc:language>en-US</dc:language>
  <cp:lastModifiedBy>Robert</cp:lastModifiedBy>
  <cp:revision>0</cp:revision>
  <dc:subject/>
  <dc:title>El Portfolio Europeo  de las Lenguas</dc:title>
</cp:coreProperties>
</file>